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6D2-6B02-44E3-8ECC-997880B6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3C2-9BF4-497D-98C4-44E5A849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8F6-1FB2-4AEF-9C0F-4C2983A9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AA3-6E16-4DD4-A03E-34E84117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8587-40D3-4EB1-B8E3-6D42523A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955-CA76-4B50-9E5C-4B4C2207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9274-11D1-4D8F-A89E-6248EB94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ECCC-DAF4-4F72-9867-965919BC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D69E-B4AA-481D-87E7-C4BE5B79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6276-E18E-4C36-8FAE-6FE3CE22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7C86-189F-45A0-B7EE-72562795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658-5D6D-48E2-9C75-92130D31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B571-A7FE-46C5-A49C-B16015C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BCA6-9982-4926-B646-6D796B2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C2AE-8C6F-41C6-A891-690EDC55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D0D0-47DD-4454-AA59-ED8D32CC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4117-F4A8-4670-8803-A2FBC030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951-085C-4AF0-80FF-7C45203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3DB-2823-4F68-8155-12548C9E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7F2-8997-403D-9918-33CCC450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07F-D595-4D2C-B5B6-A0E1CC7D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F18-C031-4A3A-83D5-EE2B0B6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955-66D1-45D1-AB38-FF0823A9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B49-E732-4F3F-BB4E-3E7603C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665C-1F1F-4928-80A5-A261EF6CE640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5168-3A3B-4FF7-A6AE-C81B2A9DBC6F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perties of Real Numbe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d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Distributiv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(b + c) = ab + a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Reflexiv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lex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=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Symmetric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ymmetric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= b, then b = 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Transitiv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it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= b and b = c, then a = 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Commutative 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utat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+ b = b +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b)=b(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Associative 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ssociat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+(b+c) = (a+b)+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bc)=(ab)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Identity 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dentity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+ 0 =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1)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Inverse 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vers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+(-a) = 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1/a) 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5:38:08Z</dcterms:created>
  <dc:creator>Parkland High School</dc:creator>
  <dc:description/>
  <dc:language>en-US</dc:language>
  <cp:lastModifiedBy>test</cp:lastModifiedBy>
  <dcterms:modified xsi:type="dcterms:W3CDTF">2014-09-08T11:41:13Z</dcterms:modified>
  <cp:revision>3</cp:revision>
  <dc:subject/>
  <dc:title>Properties of Real Numbers</dc:title>
</cp:coreProperties>
</file>